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4A5-2677-4E19-9FCD-177C77AD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3F7-2CDD-4CE8-9C8F-B1DB0852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05C-0D94-4840-AD3A-D7DA262F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224-90CE-471C-BEE7-EB0BD636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D77-8B29-40CC-9CFB-C592060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BB7-327C-45BC-8803-D242C636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CEF-CF0D-40A7-B292-1277BA4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7E1-C6BD-4DBE-ADB0-5840C50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8D4-B180-4112-82AC-E65E193B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F1E-ABA2-40DE-9CC4-250B272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00E-20D7-454C-8AA7-D97D8C8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00B-27AE-4C94-9101-CD7FBC86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CDDB-1FA5-4D77-90FF-8CA92755C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7 Ten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arivý l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bezpečne viesť chce vždy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ý č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žiarivý Lú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svieti mi tm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ok môj vedie vpr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je vždy so m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záchranou stal sa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vil ma vín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d chválu mu vzdávať chcem za spásy č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bezpečne viesť chce vždy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ý č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en žiarivý Lú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ozptýliť mra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eď v súženia čas mdlie nádeje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sľúbil, že nado m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bude b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spev vďaky znie j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chválu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bezpečne viesť chce vždy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ý č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žiarivý Lúč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 tme mám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vet zvádza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pokuš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 v mdlobe a slab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dá dosť sí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chce, aby som sláv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ním z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i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49:01Z</dcterms:modified>
  <cp:revision>22</cp:revision>
  <dc:subject/>
  <dc:title>Je veľký náš Pán, on slávy je Kráľ Nech do všetkých strán  spev vrúcnych znie chvál.</dc:title>
</cp:coreProperties>
</file>